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269-718E-4174-AFC5-7E28DB94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E36-8B61-471F-B504-15369EDD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310-58F9-4780-B214-6DA50800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004-E745-4892-8296-26A3C590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49B-D7F6-438F-841B-67E436C5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50E-730E-4C96-A2F1-B98AA777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D487-115B-465B-8607-CDD1D214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0838-F594-478D-B17C-4C861DD5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E2FD-D8A1-4F69-AED8-061957E5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CD5A-9EE9-4C16-A4BC-B855B67B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F603-7D42-4098-887E-BD95304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DCE-D903-4042-8B0C-DA593B17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4A16-BE14-4713-8D78-3CA4EDA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F530-9799-4A5B-B28B-A72E0FE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FD1A-F5C7-4341-BF53-2D0CCE05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9E2B-1BAF-4979-8F5C-518BA5D7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39BB-C8DB-4C72-8412-0CE61330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0F1-A512-4571-BD7E-75899197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B4A-9FE4-4004-90B4-3F11214A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EB7-8CE8-4284-82C7-498F621D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25C-2CFC-495C-99C8-AF5BEC8C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E4B-3145-4C00-AF5D-FD07D23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87B-83D6-43D5-A5CD-733F6409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C2D-BA74-4C06-88C0-ADFC083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A831-DDFE-4602-8DB1-AA13619F7F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057B-5FA6-40DF-9622-0CC71E903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"/>
          <p:cNvSpPr/>
          <p:nvPr/>
        </p:nvSpPr>
        <p:spPr>
          <a:xfrm>
            <a:off x="152280" y="152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lringer 3/31/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0" y="3276720"/>
            <a:ext cx="9144000" cy="27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first 5 minutes to answer the following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ree of the economic changes that occurred in Europe during the Middle Ag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wo to three sentences describe a medieval 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were living in the High Middle Ages, would you rather live in a town, on a manor, or in a peasant’s villag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8" descr="PolandCastleMalbork"/>
          <p:cNvPicPr/>
          <p:nvPr/>
        </p:nvPicPr>
        <p:blipFill>
          <a:blip r:embed="rId1"/>
          <a:stretch/>
        </p:blipFill>
        <p:spPr>
          <a:xfrm>
            <a:off x="4700520" y="146160"/>
            <a:ext cx="4010040" cy="52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knights-jousting-3"/>
          <p:cNvPicPr/>
          <p:nvPr/>
        </p:nvPicPr>
        <p:blipFill>
          <a:blip r:embed="rId2"/>
          <a:stretch/>
        </p:blipFill>
        <p:spPr>
          <a:xfrm>
            <a:off x="738360" y="907920"/>
            <a:ext cx="3095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1-03-31T13:38:37Z</dcterms:modified>
  <cp:revision>25</cp:revision>
  <dc:subject/>
  <dc:title>Slide 1</dc:title>
</cp:coreProperties>
</file>